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9564-F850-4513-B49D-EE794353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ED7E-74BE-4DD7-A972-8456CAF5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516B-063E-49A6-95F7-34EC1BAC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C6E8-4A12-42B6-81AC-EC05D608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ECEC-390B-4C10-B2B3-D86883A3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7FAE-2FDF-4E2B-862E-BBD5950B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0C33-08EB-417F-86BA-E3E28ADE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AEE8-7C43-46CD-A59A-2B660884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1351-A5A7-4F33-AB2B-724C42EE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7575-3C99-4045-90E7-17028979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1EBA-2615-485C-B217-B0F1014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080A-5A23-4FFB-8BA0-9540BF9D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3565-0658-491F-8259-A46515E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8126-67EA-406B-9CF0-D8589F6C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AF87-388D-44B7-87E4-2BD4C374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8BC6-2B89-4B37-A103-1498A934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BAE0-385D-4343-8366-C0815A56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0819-5E36-40AD-8FA1-7748D05B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E49A-F723-4754-A874-1173886F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01EC-A582-4EFE-912B-2CDCDA75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C969-63CD-49DF-B5C9-B162EA8B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4513-CAD5-40AC-88F9-ED269C07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BD33-1C80-4974-B596-7D6E7AEF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6D17-6352-4D53-9244-E114D9FA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2319-CCBE-4271-8754-7FEFFA3D4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89E8-51A5-4E08-BD37-3F63C7F81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46:41Z</dcterms:modified>
  <cp:revision>6</cp:revision>
  <dc:subject/>
  <dc:title>Petrolul mişcă omenirea</dc:title>
</cp:coreProperties>
</file>